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13943-D1B9-4D02-B5CC-9C62E537AF9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fld id="{BD333438-D10D-4D2C-B7D9-0E094964A3D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DE3-0424-448A-B716-85D0764C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51D-66CB-430D-86B3-3DC36A9C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39D-59B9-4661-9D8F-31375B35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AD3-E093-49DE-88E3-5AB46489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6BB-EDCD-4BFE-BDBC-542F12DE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BF0-E31D-481F-9CA7-12E6B9E2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D0E-8B53-435E-BFD1-5CB10D22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0F3-EE17-4D6A-876D-C73EB498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2A9-415F-4BD7-860A-A92CEDD4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035-3FCB-475E-B7D8-9DF04214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484-1691-4354-9624-29D56F05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8B9-2B89-4BCB-8E34-E9CC90CA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74B06-8002-496A-AC21-936E1E13BD2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www.eproinfo.mec.gov.br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1903320"/>
            <a:ext cx="9144000" cy="1422360"/>
          </a:xfrm>
          <a:prstGeom prst="rect">
            <a:avLst/>
          </a:prstGeom>
          <a:solidFill>
            <a:srgbClr val="1f497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6680" y="1902960"/>
            <a:ext cx="772164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Calibri"/>
              </a:rPr>
              <a:t>CADERNOS DE DEBATE 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Calibri"/>
              </a:rPr>
              <a:t>DA CLASSIFICAÇÃO INDICATIVA</a:t>
            </a:r>
            <a:br>
              <a:rPr sz="2000"/>
            </a:br>
            <a:br>
              <a:rPr sz="2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592200" y="360360"/>
          <a:ext cx="8507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60360"/>
                    <a:ext cx="8507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Imagem 5" descr="Volume 1.pdf - Adobe Acrobat Pro"/>
          <p:cNvPicPr/>
          <p:nvPr/>
        </p:nvPicPr>
        <p:blipFill>
          <a:blip r:embed="rId3"/>
          <a:srcRect l="33783" t="11881" r="32440" b="0"/>
          <a:stretch/>
        </p:blipFill>
        <p:spPr>
          <a:xfrm rot="21070800">
            <a:off x="270000" y="3643200"/>
            <a:ext cx="1915920" cy="2727360"/>
          </a:xfrm>
          <a:prstGeom prst="rect">
            <a:avLst/>
          </a:prstGeom>
          <a:ln w="0">
            <a:noFill/>
          </a:ln>
        </p:spPr>
      </p:pic>
      <p:pic>
        <p:nvPicPr>
          <p:cNvPr id="53" name="Imagem 1" descr="Volume 2.pdf - Adobe Acrobat Pro"/>
          <p:cNvPicPr/>
          <p:nvPr/>
        </p:nvPicPr>
        <p:blipFill>
          <a:blip r:embed="rId4"/>
          <a:srcRect l="33720" t="12128" r="32561" b="0"/>
          <a:stretch/>
        </p:blipFill>
        <p:spPr>
          <a:xfrm rot="20956200">
            <a:off x="1915920" y="3831840"/>
            <a:ext cx="1919160" cy="2727360"/>
          </a:xfrm>
          <a:prstGeom prst="rect">
            <a:avLst/>
          </a:prstGeom>
          <a:ln w="0">
            <a:noFill/>
          </a:ln>
        </p:spPr>
      </p:pic>
      <p:pic>
        <p:nvPicPr>
          <p:cNvPr id="54" name="Imagem 2" descr="Volume 3.pdf - Adobe Acrobat Pro"/>
          <p:cNvPicPr/>
          <p:nvPr/>
        </p:nvPicPr>
        <p:blipFill>
          <a:blip r:embed="rId5"/>
          <a:srcRect l="33510" t="12128" r="32983" b="2233"/>
          <a:stretch/>
        </p:blipFill>
        <p:spPr>
          <a:xfrm rot="20821200">
            <a:off x="3562200" y="3865680"/>
            <a:ext cx="1957680" cy="2727360"/>
          </a:xfrm>
          <a:prstGeom prst="rect">
            <a:avLst/>
          </a:prstGeom>
          <a:ln w="0">
            <a:noFill/>
          </a:ln>
        </p:spPr>
      </p:pic>
      <p:pic>
        <p:nvPicPr>
          <p:cNvPr id="55" name="Imagem 1" descr="Volume 4.pdf - Adobe Acrobat Pro"/>
          <p:cNvPicPr/>
          <p:nvPr/>
        </p:nvPicPr>
        <p:blipFill>
          <a:blip r:embed="rId6"/>
          <a:srcRect l="33596" t="12128" r="32809" b="2315"/>
          <a:stretch/>
        </p:blipFill>
        <p:spPr>
          <a:xfrm rot="20936400">
            <a:off x="5286240" y="3785760"/>
            <a:ext cx="1963800" cy="2727360"/>
          </a:xfrm>
          <a:prstGeom prst="rect">
            <a:avLst/>
          </a:prstGeom>
          <a:ln w="0">
            <a:noFill/>
          </a:ln>
        </p:spPr>
      </p:pic>
      <p:pic>
        <p:nvPicPr>
          <p:cNvPr id="56" name="Imagem 2" descr="Volume 5.pdf - Adobe Acrobat Pro"/>
          <p:cNvPicPr/>
          <p:nvPr/>
        </p:nvPicPr>
        <p:blipFill>
          <a:blip r:embed="rId7"/>
          <a:srcRect l="33773" t="12669" r="32456" b="2158"/>
          <a:stretch/>
        </p:blipFill>
        <p:spPr>
          <a:xfrm rot="20715600">
            <a:off x="6967080" y="3769920"/>
            <a:ext cx="2052720" cy="2822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14560" y="95400"/>
            <a:ext cx="1593720" cy="16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7f7f7f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tângulo 1"/>
          <p:cNvSpPr/>
          <p:nvPr/>
        </p:nvSpPr>
        <p:spPr>
          <a:xfrm>
            <a:off x="614520" y="1420920"/>
            <a:ext cx="6038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Sistemas de classificação de videogames nos EUA e na Europa: comparando seus result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Leyla Dogruel  e Sven Joeckel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 nova classificação indicativa e a violência nos games: apontando novas lei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Lynn Alve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Games, narrativa e classificação indicativa: um jogo de cooper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Arthur Protasio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O desafio da classificação indicativa para os jog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Moacyr Alve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m 5" descr="Volume 3.pdf - Adobe Acrobat Pro"/>
          <p:cNvPicPr/>
          <p:nvPr/>
        </p:nvPicPr>
        <p:blipFill>
          <a:blip r:embed="rId1"/>
          <a:srcRect l="33510" t="12128" r="32983" b="2233"/>
          <a:stretch/>
        </p:blipFill>
        <p:spPr>
          <a:xfrm>
            <a:off x="7537320" y="1649520"/>
            <a:ext cx="1459080" cy="2033640"/>
          </a:xfrm>
          <a:prstGeom prst="rect">
            <a:avLst/>
          </a:prstGeom>
          <a:ln w="0">
            <a:noFill/>
          </a:ln>
        </p:spPr>
      </p:pic>
      <p:sp>
        <p:nvSpPr>
          <p:cNvPr id="99" name="Retângulo 6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7f7f7f"/>
                </a:solidFill>
                <a:latin typeface="Calibri"/>
                <a:ea typeface="Times New Roman"/>
              </a:rPr>
              <a:t>VOLUME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6"/>
          <p:cNvGraphicFramePr/>
          <p:nvPr/>
        </p:nvGraphicFramePr>
        <p:xfrm>
          <a:off x="223920" y="2884320"/>
          <a:ext cx="429408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884320"/>
                    <a:ext cx="429408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Imagem 1" descr="Volume 4.pdf - Adobe Acrobat Pro"/>
          <p:cNvPicPr/>
          <p:nvPr/>
        </p:nvPicPr>
        <p:blipFill>
          <a:blip r:embed="rId3"/>
          <a:srcRect l="33596" t="12128" r="32809" b="2315"/>
          <a:stretch/>
        </p:blipFill>
        <p:spPr>
          <a:xfrm>
            <a:off x="4792680" y="919080"/>
            <a:ext cx="3954600" cy="549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2440" y="2635200"/>
            <a:ext cx="97164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25406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10253f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tângulo 1"/>
          <p:cNvSpPr/>
          <p:nvPr/>
        </p:nvSpPr>
        <p:spPr>
          <a:xfrm>
            <a:off x="549360" y="488880"/>
            <a:ext cx="6316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NTREVISTA - A mídia e a promoção e proteção da criança e do adolescente: recomendações da Unes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Guilherme Canel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Classificação indicativa e vinculação de horários na programação de TV: a força das imagens e o poder das palav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Jane Reis Gonçalves Pereir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 inconstitucionalidade da classificação etária impositiva estabelecida peloArt. 254 do E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Gustavo Binenbjom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nálise da ADI 2404: nove razões para manter a exigibilidade de respeito aos horários estabelecidos no sistema da classificação indic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Antonio Jorge Pereira Júnior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Um estudo comparativo entre crianças e liberdade de express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Kevin Saunder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m 6" descr="Volume 4.pdf - Adobe Acrobat Pro"/>
          <p:cNvPicPr/>
          <p:nvPr/>
        </p:nvPicPr>
        <p:blipFill>
          <a:blip r:embed="rId1"/>
          <a:srcRect l="33596" t="12128" r="32809" b="2315"/>
          <a:stretch/>
        </p:blipFill>
        <p:spPr>
          <a:xfrm>
            <a:off x="7537320" y="1668600"/>
            <a:ext cx="1451160" cy="2014560"/>
          </a:xfrm>
          <a:prstGeom prst="rect">
            <a:avLst/>
          </a:prstGeom>
          <a:ln w="0">
            <a:noFill/>
          </a:ln>
        </p:spPr>
      </p:pic>
      <p:sp>
        <p:nvSpPr>
          <p:cNvPr id="108" name="Retângulo 7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10253f"/>
                </a:solidFill>
                <a:latin typeface="Calibri"/>
                <a:ea typeface="Times New Roman"/>
              </a:rPr>
              <a:t>VOLUME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25406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10253f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tângulo 1"/>
          <p:cNvSpPr/>
          <p:nvPr/>
        </p:nvSpPr>
        <p:spPr>
          <a:xfrm>
            <a:off x="614520" y="652320"/>
            <a:ext cx="6298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Para além dos jogos racionais: uma análise da “ecologia de valores” nos debates sobre governança da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Alison Powell e Vicki Nash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O olhar do direito internacional sobre a garantia dos direitos da criança e do adolescente  e  da liberdade de expressão através da classificação indicativ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Karina Quintanilh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Infância e propaganda: aparentes e falsos conflitos de nor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Wanderlino Nogueira Neto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Classificação indicativa e a comunicação 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Marcos Alberto Sant’anna Bitelli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 global research agenda for children’s rights in the digital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Sonia Livingstone  e Monica Bulger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m 6" descr="Volume 4.pdf - Adobe Acrobat Pro"/>
          <p:cNvPicPr/>
          <p:nvPr/>
        </p:nvPicPr>
        <p:blipFill>
          <a:blip r:embed="rId1"/>
          <a:srcRect l="33596" t="12128" r="32809" b="2315"/>
          <a:stretch/>
        </p:blipFill>
        <p:spPr>
          <a:xfrm>
            <a:off x="7537320" y="1668600"/>
            <a:ext cx="1451160" cy="2014560"/>
          </a:xfrm>
          <a:prstGeom prst="rect">
            <a:avLst/>
          </a:prstGeom>
          <a:ln w="0">
            <a:noFill/>
          </a:ln>
        </p:spPr>
      </p:pic>
      <p:sp>
        <p:nvSpPr>
          <p:cNvPr id="113" name="Retângulo 5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10253f"/>
                </a:solidFill>
                <a:latin typeface="Calibri"/>
                <a:ea typeface="Times New Roman"/>
              </a:rPr>
              <a:t>VOLUME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25406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10253f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tângulo 1"/>
          <p:cNvSpPr/>
          <p:nvPr/>
        </p:nvSpPr>
        <p:spPr>
          <a:xfrm>
            <a:off x="628560" y="1660680"/>
            <a:ext cx="6284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Desafios na integração dos direitos humanos à agenda das políticas públicas de inclusão e letramento digital no Bras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Rodrigo Nejm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Quem não curte, compartilha: a participação política de crianças e adolescentes e os sites de redes soci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Ronney Ferreir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 violência em suas várias expressões na infância e na adolescê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Rachel Niskier Sanch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m 6" descr="Volume 4.pdf - Adobe Acrobat Pro"/>
          <p:cNvPicPr/>
          <p:nvPr/>
        </p:nvPicPr>
        <p:blipFill>
          <a:blip r:embed="rId1"/>
          <a:srcRect l="33596" t="12128" r="32809" b="2315"/>
          <a:stretch/>
        </p:blipFill>
        <p:spPr>
          <a:xfrm>
            <a:off x="7537320" y="1668600"/>
            <a:ext cx="1451160" cy="2014560"/>
          </a:xfrm>
          <a:prstGeom prst="rect">
            <a:avLst/>
          </a:prstGeom>
          <a:ln w="0">
            <a:noFill/>
          </a:ln>
        </p:spPr>
      </p:pic>
      <p:sp>
        <p:nvSpPr>
          <p:cNvPr id="118" name="Retângulo 5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10253f"/>
                </a:solidFill>
                <a:latin typeface="Calibri"/>
                <a:ea typeface="Times New Roman"/>
              </a:rPr>
              <a:t>VOLUME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6"/>
          <p:cNvGraphicFramePr/>
          <p:nvPr/>
        </p:nvGraphicFramePr>
        <p:xfrm>
          <a:off x="223920" y="2884320"/>
          <a:ext cx="429408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884320"/>
                    <a:ext cx="429408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Imagem 2" descr="Volume 5.pdf - Adobe Acrobat Pro"/>
          <p:cNvPicPr/>
          <p:nvPr/>
        </p:nvPicPr>
        <p:blipFill>
          <a:blip r:embed="rId3"/>
          <a:srcRect l="33773" t="12669" r="32456" b="2158"/>
          <a:stretch/>
        </p:blipFill>
        <p:spPr>
          <a:xfrm>
            <a:off x="4714920" y="722160"/>
            <a:ext cx="4140000" cy="569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2440" y="2635200"/>
            <a:ext cx="97164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cc9900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tângulo 1"/>
          <p:cNvSpPr/>
          <p:nvPr/>
        </p:nvSpPr>
        <p:spPr>
          <a:xfrm>
            <a:off x="628560" y="765000"/>
            <a:ext cx="628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ENTREVISTA 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-  Educação para a mídia na perspectiva das crianças e adolesc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Cecília von Feilitzen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ducomunicação e educação midiática: vertentes históricas de aproximação entre comunicação e educaçã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smar de Oliveira Soare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ducação para a cidadania democrática em uma cultura dig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Vicent Gozálvez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Mídia-educação a serviço da cidadania: uma proposta para a formação de assistentes soci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Alexandra Bujokas de Siquei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ducar para as mídias: o desafio continua em relação aos meios convencionais e não apenas frente a novas tecnolog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Geder Luis Parzianel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agem 5" descr="Volume 5.pdf - Adobe Acrobat Pro"/>
          <p:cNvPicPr/>
          <p:nvPr/>
        </p:nvPicPr>
        <p:blipFill>
          <a:blip r:embed="rId1"/>
          <a:srcRect l="33773" t="12669" r="32456" b="2158"/>
          <a:stretch/>
        </p:blipFill>
        <p:spPr>
          <a:xfrm>
            <a:off x="7599240" y="1828800"/>
            <a:ext cx="1346400" cy="1854360"/>
          </a:xfrm>
          <a:prstGeom prst="rect">
            <a:avLst/>
          </a:prstGeom>
          <a:ln w="0">
            <a:noFill/>
          </a:ln>
        </p:spPr>
      </p:pic>
      <p:sp>
        <p:nvSpPr>
          <p:cNvPr id="127" name="Retângulo 11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cc9900"/>
                </a:solidFill>
                <a:latin typeface="Calibri"/>
                <a:ea typeface="Times New Roman"/>
              </a:rPr>
              <a:t>VOLUME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cc9900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tângulo 1"/>
          <p:cNvSpPr/>
          <p:nvPr/>
        </p:nvSpPr>
        <p:spPr>
          <a:xfrm>
            <a:off x="628560" y="1038240"/>
            <a:ext cx="6284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ducação para a mídia na escola brasilei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Juvenal Zancheta Júnior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Pela qualidade na programação infantil de televis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Mariana de Souza G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ducação em alfabetização midiática para uma nova cidadania prossumido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Rosa García-Ruiz, Antonia Ramírez-García e María M. Rodríguez-Rosell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Contexto familiar, televisão e valores percebidos. Um estudo transcultural com adolesc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Ana Aierbe, Guillermo Orozco e Concepción Medrano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Recomendações da Academia Americana de Pediatria para uma relação saudável entre a mídia e as crianças e adolescente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Imagem 5" descr="Volume 5.pdf - Adobe Acrobat Pro"/>
          <p:cNvPicPr/>
          <p:nvPr/>
        </p:nvPicPr>
        <p:blipFill>
          <a:blip r:embed="rId1"/>
          <a:srcRect l="33773" t="12669" r="32456" b="2158"/>
          <a:stretch/>
        </p:blipFill>
        <p:spPr>
          <a:xfrm>
            <a:off x="7599240" y="1828800"/>
            <a:ext cx="1346400" cy="1854360"/>
          </a:xfrm>
          <a:prstGeom prst="rect">
            <a:avLst/>
          </a:prstGeom>
          <a:ln w="0">
            <a:noFill/>
          </a:ln>
        </p:spPr>
      </p:pic>
      <p:sp>
        <p:nvSpPr>
          <p:cNvPr id="132" name="Retângulo 6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cc9900"/>
                </a:solidFill>
                <a:latin typeface="Calibri"/>
                <a:ea typeface="Times New Roman"/>
              </a:rPr>
              <a:t>VOLUME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1903320"/>
            <a:ext cx="9144000" cy="1422360"/>
          </a:xfrm>
          <a:prstGeom prst="rect">
            <a:avLst/>
          </a:prstGeom>
          <a:solidFill>
            <a:srgbClr val="1f497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6680" y="1902960"/>
            <a:ext cx="772164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1" lang="pt-BR" sz="3000" spc="-1" strike="noStrike">
                <a:solidFill>
                  <a:srgbClr val="ffffff"/>
                </a:solidFill>
                <a:latin typeface="Calibri"/>
              </a:rPr>
              <a:t>OFICINA DE CLASSIFICAÇÃO INDICATIVA EM FORMATO EAD (EDUCAÇÃO À DISTÂNCIA)</a:t>
            </a:r>
            <a:br>
              <a:rPr sz="2000"/>
            </a:br>
            <a:br>
              <a:rPr sz="2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210960" y="360360"/>
          <a:ext cx="8507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360360"/>
                    <a:ext cx="8507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Imagem 19" descr=""/>
          <p:cNvPicPr/>
          <p:nvPr/>
        </p:nvPicPr>
        <p:blipFill>
          <a:blip r:embed="rId3"/>
          <a:stretch/>
        </p:blipFill>
        <p:spPr>
          <a:xfrm>
            <a:off x="6993000" y="3556080"/>
            <a:ext cx="1671480" cy="3200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23760" y="328680"/>
            <a:ext cx="1387800" cy="14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3"/>
          <p:cNvGraphicFramePr/>
          <p:nvPr/>
        </p:nvGraphicFramePr>
        <p:xfrm>
          <a:off x="210960" y="360360"/>
          <a:ext cx="8507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360360"/>
                    <a:ext cx="8507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895320" y="1874880"/>
            <a:ext cx="7459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Ambientação: </a:t>
            </a: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pt-BR" sz="3500" spc="-1" strike="noStrike">
                <a:solidFill>
                  <a:srgbClr val="10253f"/>
                </a:solidFill>
                <a:latin typeface="Calibri"/>
              </a:rPr>
              <a:t>Introdução</a:t>
            </a: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Módulo 1: </a:t>
            </a:r>
            <a:r>
              <a:rPr b="1" lang="pt-BR" sz="3500" spc="-1" strike="noStrike">
                <a:solidFill>
                  <a:srgbClr val="10253f"/>
                </a:solidFill>
                <a:latin typeface="Calibri"/>
              </a:rPr>
              <a:t>Conceitos e diretrizes da Classificação Indicativa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Módulo 2: </a:t>
            </a:r>
            <a:r>
              <a:rPr b="1" lang="pt-BR" sz="3500" spc="-1" strike="noStrike">
                <a:solidFill>
                  <a:srgbClr val="10253f"/>
                </a:solidFill>
                <a:latin typeface="Calibri"/>
              </a:rPr>
              <a:t>Direitos Humanos da Criança e do Adolescente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Módulo 3: </a:t>
            </a:r>
            <a:r>
              <a:rPr b="1" lang="pt-BR" sz="3500" spc="-1" strike="noStrike">
                <a:solidFill>
                  <a:srgbClr val="10253f"/>
                </a:solidFill>
                <a:latin typeface="Calibri"/>
              </a:rPr>
              <a:t>Entendendo o processo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923760" y="328680"/>
            <a:ext cx="1387800" cy="14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6"/>
          <p:cNvGraphicFramePr/>
          <p:nvPr/>
        </p:nvGraphicFramePr>
        <p:xfrm>
          <a:off x="304920" y="2924280"/>
          <a:ext cx="429408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24280"/>
                    <a:ext cx="42940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Imagem 5" descr="Volume 1.pdf - Adobe Acrobat Pro"/>
          <p:cNvPicPr/>
          <p:nvPr/>
        </p:nvPicPr>
        <p:blipFill>
          <a:blip r:embed="rId3"/>
          <a:srcRect l="33783" t="11881" r="32440" b="0"/>
          <a:stretch/>
        </p:blipFill>
        <p:spPr>
          <a:xfrm>
            <a:off x="4900680" y="927000"/>
            <a:ext cx="3679920" cy="5235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4120" y="2809800"/>
            <a:ext cx="97164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onector reto 13"/>
          <p:cNvSpPr/>
          <p:nvPr/>
        </p:nvSpPr>
        <p:spPr>
          <a:xfrm>
            <a:off x="7885080" y="6334200"/>
            <a:ext cx="0" cy="83016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Imagem 6" descr=""/>
          <p:cNvPicPr/>
          <p:nvPr/>
        </p:nvPicPr>
        <p:blipFill>
          <a:blip r:embed="rId1"/>
          <a:stretch/>
        </p:blipFill>
        <p:spPr>
          <a:xfrm rot="973200">
            <a:off x="757080" y="371160"/>
            <a:ext cx="2789280" cy="5290920"/>
          </a:xfrm>
          <a:prstGeom prst="rect">
            <a:avLst/>
          </a:prstGeom>
          <a:ln w="0">
            <a:noFill/>
          </a:ln>
        </p:spPr>
      </p:pic>
      <p:pic>
        <p:nvPicPr>
          <p:cNvPr id="145" name="Imagem 8" descr=""/>
          <p:cNvPicPr/>
          <p:nvPr/>
        </p:nvPicPr>
        <p:blipFill>
          <a:blip r:embed="rId2"/>
          <a:srcRect l="0" t="0" r="81907" b="0"/>
          <a:stretch/>
        </p:blipFill>
        <p:spPr>
          <a:xfrm>
            <a:off x="7264440" y="0"/>
            <a:ext cx="1616040" cy="6934320"/>
          </a:xfrm>
          <a:prstGeom prst="rect">
            <a:avLst/>
          </a:prstGeom>
          <a:ln w="0">
            <a:noFill/>
          </a:ln>
        </p:spPr>
      </p:pic>
      <p:sp>
        <p:nvSpPr>
          <p:cNvPr id="146" name="CaixaDeTexto 1"/>
          <p:cNvSpPr/>
          <p:nvPr/>
        </p:nvSpPr>
        <p:spPr>
          <a:xfrm>
            <a:off x="3247920" y="3746520"/>
            <a:ext cx="401652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FÓRUM DE DISCUSS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aixaDeTexto 1"/>
          <p:cNvSpPr/>
          <p:nvPr/>
        </p:nvSpPr>
        <p:spPr>
          <a:xfrm>
            <a:off x="3968640" y="2301840"/>
            <a:ext cx="329580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MATERIAL COMPLEMENT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aixaDeTexto 1"/>
          <p:cNvSpPr/>
          <p:nvPr/>
        </p:nvSpPr>
        <p:spPr>
          <a:xfrm>
            <a:off x="4164120" y="1096920"/>
            <a:ext cx="3295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16 HOR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aixaDeTexto 1"/>
          <p:cNvSpPr/>
          <p:nvPr/>
        </p:nvSpPr>
        <p:spPr>
          <a:xfrm>
            <a:off x="3049560" y="4675320"/>
            <a:ext cx="441000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LINGUAGEM ACESSÍ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CaixaDeTexto 1"/>
          <p:cNvSpPr/>
          <p:nvPr/>
        </p:nvSpPr>
        <p:spPr>
          <a:xfrm>
            <a:off x="0" y="6097680"/>
            <a:ext cx="78850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DISPONÍVEL EM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www.eproinfo.mec.gov.br</a:t>
            </a: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ângulo 2"/>
          <p:cNvSpPr/>
          <p:nvPr/>
        </p:nvSpPr>
        <p:spPr>
          <a:xfrm>
            <a:off x="0" y="0"/>
            <a:ext cx="7267680" cy="6858000"/>
          </a:xfrm>
          <a:prstGeom prst="rect">
            <a:avLst/>
          </a:prstGeom>
          <a:solidFill>
            <a:srgbClr val="95373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74680" y="720000"/>
            <a:ext cx="6993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A família e a política pública de classificação indicativa: contribuições da psicolog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Gustavo Camilo Bapt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arências de conselhos curadores e regras de programação nas concessões públicas de mídia - classificação indicativa: instrumento para garantia de direitos de crianças e adolesc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Sueli Ferreira Schia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perspectivas e desaf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árcia Morgado e Fernando Mart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os obstáculos para efetivar uma conquista da Constituição Fed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ariana Martins de Carvalho e Gésio Tássio da Silva Pas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controle social em detrimento da censura e da desregulament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Renato Godoy de Tol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943634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tângulo 1"/>
          <p:cNvSpPr/>
          <p:nvPr/>
        </p:nvSpPr>
        <p:spPr>
          <a:xfrm>
            <a:off x="7267680" y="4164120"/>
            <a:ext cx="1933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953735"/>
                </a:solidFill>
                <a:latin typeface="Calibri"/>
                <a:ea typeface="Times New Roman"/>
              </a:rPr>
              <a:t>SUMÁRIO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508880" y="2084400"/>
            <a:ext cx="1461960" cy="2079720"/>
          </a:xfrm>
          <a:prstGeom prst="rect">
            <a:avLst/>
          </a:prstGeom>
          <a:ln w="0">
            <a:noFill/>
          </a:ln>
        </p:spPr>
      </p:pic>
      <p:sp>
        <p:nvSpPr>
          <p:cNvPr id="66" name="Retângulo 4"/>
          <p:cNvSpPr/>
          <p:nvPr/>
        </p:nvSpPr>
        <p:spPr>
          <a:xfrm>
            <a:off x="7760160" y="15447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953735"/>
                </a:solidFill>
                <a:latin typeface="Calibri"/>
                <a:ea typeface="Times New Roman"/>
              </a:rPr>
              <a:t>VOLUME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2"/>
          <p:cNvSpPr/>
          <p:nvPr/>
        </p:nvSpPr>
        <p:spPr>
          <a:xfrm>
            <a:off x="0" y="0"/>
            <a:ext cx="7267680" cy="6858000"/>
          </a:xfrm>
          <a:prstGeom prst="rect">
            <a:avLst/>
          </a:prstGeom>
          <a:solidFill>
            <a:srgbClr val="95373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74680" y="1959840"/>
            <a:ext cx="638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 e autorregulação no Brasil: o julgamento da ADI 2.404 e o contraste entre discurso e prática das emissoras de televis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Veet Vivar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Regulação de conteú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Toby Mendel e Eve Salom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Entrevista - A classificação indicativa na Europa: o caso espan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Ana Azurmendi 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943634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ângulo 1"/>
          <p:cNvSpPr/>
          <p:nvPr/>
        </p:nvSpPr>
        <p:spPr>
          <a:xfrm>
            <a:off x="7267680" y="4164120"/>
            <a:ext cx="19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953735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7508880" y="2084400"/>
            <a:ext cx="1461960" cy="2079720"/>
          </a:xfrm>
          <a:prstGeom prst="rect">
            <a:avLst/>
          </a:prstGeom>
          <a:ln w="0">
            <a:noFill/>
          </a:ln>
        </p:spPr>
      </p:pic>
      <p:sp>
        <p:nvSpPr>
          <p:cNvPr id="71" name="Retângulo 6"/>
          <p:cNvSpPr/>
          <p:nvPr/>
        </p:nvSpPr>
        <p:spPr>
          <a:xfrm>
            <a:off x="7760160" y="15447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953735"/>
                </a:solidFill>
                <a:latin typeface="Calibri"/>
                <a:ea typeface="Times New Roman"/>
              </a:rPr>
              <a:t>VOLUME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6"/>
          <p:cNvGraphicFramePr/>
          <p:nvPr/>
        </p:nvGraphicFramePr>
        <p:xfrm>
          <a:off x="241200" y="2798640"/>
          <a:ext cx="42944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2798640"/>
                    <a:ext cx="42944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Imagem 1" descr="Volume 2.pdf - Adobe Acrobat Pro"/>
          <p:cNvPicPr/>
          <p:nvPr/>
        </p:nvPicPr>
        <p:blipFill>
          <a:blip r:embed="rId3"/>
          <a:srcRect l="33720" t="12128" r="32561" b="0"/>
          <a:stretch/>
        </p:blipFill>
        <p:spPr>
          <a:xfrm>
            <a:off x="4735440" y="927000"/>
            <a:ext cx="3783240" cy="5376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2440" y="2635200"/>
            <a:ext cx="97164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tângulo 9"/>
          <p:cNvSpPr/>
          <p:nvPr/>
        </p:nvSpPr>
        <p:spPr>
          <a:xfrm>
            <a:off x="0" y="0"/>
            <a:ext cx="7267680" cy="68580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m 3" descr="Volume 2.pdf - Adobe Acrobat Pro"/>
          <p:cNvPicPr/>
          <p:nvPr/>
        </p:nvPicPr>
        <p:blipFill>
          <a:blip r:embed="rId1"/>
          <a:srcRect l="33720" t="12128" r="32561" b="0"/>
          <a:stretch/>
        </p:blipFill>
        <p:spPr>
          <a:xfrm>
            <a:off x="7537320" y="1687680"/>
            <a:ext cx="1398600" cy="1985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336600" y="302760"/>
            <a:ext cx="69152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Entrevista - A evolução da política de classificação indicativa no Bras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Paulo Abrão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uma análise do estado da arte da pesquisa sobre o tema no Bras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Fabro Steibel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a TV entre o mercado e a é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Arial"/>
              </a:rPr>
              <a:t>Ana Cristina Olmo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ez anos da política nacional de classificação indicativa no Brasil: uma conquista democr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Tamara Amoroso Gonçalve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desafios futuros e implicações jornalíst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Fernando Oliveira Paulino, Luiz Martins da Silva e Johnatan Rei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Trajetória de um estudo sobre censura, classificação indicativa e os desafios das mídias digit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ayra Rodrigues Gomes</a:t>
            </a:r>
            <a:r>
              <a:rPr b="1" i="1" lang="pt-BR" sz="18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e Andrea Limber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376092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tângulo 10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VOLUME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tângulo 9"/>
          <p:cNvSpPr/>
          <p:nvPr/>
        </p:nvSpPr>
        <p:spPr>
          <a:xfrm>
            <a:off x="0" y="0"/>
            <a:ext cx="7267680" cy="68580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m 3" descr="Volume 2.pdf - Adobe Acrobat Pro"/>
          <p:cNvPicPr/>
          <p:nvPr/>
        </p:nvPicPr>
        <p:blipFill>
          <a:blip r:embed="rId1"/>
          <a:srcRect l="33720" t="12128" r="32561" b="0"/>
          <a:stretch/>
        </p:blipFill>
        <p:spPr>
          <a:xfrm>
            <a:off x="7537320" y="1687680"/>
            <a:ext cx="1398600" cy="1985760"/>
          </a:xfrm>
          <a:prstGeom prst="rect">
            <a:avLst/>
          </a:prstGeom>
          <a:ln w="0">
            <a:noFill/>
          </a:ln>
        </p:spPr>
      </p:pic>
      <p:sp>
        <p:nvSpPr>
          <p:cNvPr id="83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376092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tângulo 1"/>
          <p:cNvSpPr/>
          <p:nvPr/>
        </p:nvSpPr>
        <p:spPr>
          <a:xfrm>
            <a:off x="614520" y="1444680"/>
            <a:ext cx="6038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Em defesa dos direitos da criança e do adolesc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óvis Boufleur e Vânia Lúcia Ferreira Le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Proteção integral de crianças e adolescentes e classificação indic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iriam Maria José dos Sa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 e educação de qualidade: desafios a serem realiz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eomar Manh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A classificação indicativa e a programação internacional dos serviços de televisão por assinatu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Arial"/>
              </a:rPr>
              <a:t>Carlos Alkimim</a:t>
            </a: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tângulo 7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VOLUME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6"/>
          <p:cNvGraphicFramePr/>
          <p:nvPr/>
        </p:nvGraphicFramePr>
        <p:xfrm>
          <a:off x="336600" y="2579760"/>
          <a:ext cx="429408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579760"/>
                    <a:ext cx="42940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Imagem 2" descr="Volume 3.pdf - Adobe Acrobat Pro"/>
          <p:cNvPicPr/>
          <p:nvPr/>
        </p:nvPicPr>
        <p:blipFill>
          <a:blip r:embed="rId3"/>
          <a:srcRect l="33510" t="12128" r="32983" b="2233"/>
          <a:stretch/>
        </p:blipFill>
        <p:spPr>
          <a:xfrm>
            <a:off x="4924440" y="722160"/>
            <a:ext cx="3786120" cy="5276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5800" y="2397240"/>
            <a:ext cx="97164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ângulo 9"/>
          <p:cNvSpPr/>
          <p:nvPr/>
        </p:nvSpPr>
        <p:spPr>
          <a:xfrm>
            <a:off x="0" y="0"/>
            <a:ext cx="726768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7f7f7f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tângulo 1"/>
          <p:cNvSpPr/>
          <p:nvPr/>
        </p:nvSpPr>
        <p:spPr>
          <a:xfrm>
            <a:off x="614520" y="1004760"/>
            <a:ext cx="6038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Freedom of expression and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Andrew Puddephatt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 regulação da internet: políticas da era da comunicação dig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Sergio Denicoli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vanços na Regulação de Conteúdo On-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Brian O'Neill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n their own words: what bothers children onli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Sonia Livingstone, Lucyna Kirwil, Cristina Ponte e Elisabeth Staksrud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Crianças e adolescentes: usando a internet com seguranç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Lucimara Desiderá e Miriam von Zuben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Consumo televisivo infantojuvenil multi-te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María Dolores Souz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magem 5" descr="Volume 3.pdf - Adobe Acrobat Pro"/>
          <p:cNvPicPr/>
          <p:nvPr/>
        </p:nvPicPr>
        <p:blipFill>
          <a:blip r:embed="rId1"/>
          <a:srcRect l="33510" t="12128" r="32983" b="2233"/>
          <a:stretch/>
        </p:blipFill>
        <p:spPr>
          <a:xfrm>
            <a:off x="7537320" y="1649520"/>
            <a:ext cx="1459080" cy="2033640"/>
          </a:xfrm>
          <a:prstGeom prst="rect">
            <a:avLst/>
          </a:prstGeom>
          <a:ln w="0">
            <a:noFill/>
          </a:ln>
        </p:spPr>
      </p:pic>
      <p:sp>
        <p:nvSpPr>
          <p:cNvPr id="94" name="Retângulo 6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7f7f7f"/>
                </a:solidFill>
                <a:latin typeface="Calibri"/>
                <a:ea typeface="Times New Roman"/>
              </a:rPr>
              <a:t>VOLUME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07:07:59Z</dcterms:created>
  <dc:creator>Angela  Lovato Dellazzana</dc:creator>
  <dc:description/>
  <dc:language>en-US</dc:language>
  <cp:lastModifiedBy>alessandra.macedo</cp:lastModifiedBy>
  <dcterms:modified xsi:type="dcterms:W3CDTF">2014-12-17T13:31:25Z</dcterms:modified>
  <cp:revision>99</cp:revision>
  <dc:subject/>
  <dc:title>Projeto 914BRZ5006 – Edital 03/20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8107773</vt:r8>
  </property>
  <property fmtid="{D5CDD505-2E9C-101B-9397-08002B2CF9AE}" pid="3" name="_AuthorEmail">
    <vt:lpwstr>rafael.vilela@mj.gov.br</vt:lpwstr>
  </property>
  <property fmtid="{D5CDD505-2E9C-101B-9397-08002B2CF9AE}" pid="4" name="_AuthorEmailDisplayName">
    <vt:lpwstr>Rafael Figueiredo Vilela</vt:lpwstr>
  </property>
  <property fmtid="{D5CDD505-2E9C-101B-9397-08002B2CF9AE}" pid="5" name="_EmailSubject">
    <vt:lpwstr>Encontro da Classificação Indicativa_arquivos</vt:lpwstr>
  </property>
  <property fmtid="{D5CDD505-2E9C-101B-9397-08002B2CF9AE}" pid="6" name="_PreviousAdHocReviewCycleID">
    <vt:r8>174043824</vt:r8>
  </property>
</Properties>
</file>